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F115-20EC-4A5B-99BC-6BC6AEC8ACD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16AF-E3A9-4668-A8F6-29CB62118F4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03BB-9091-4277-99BB-4E5DB860861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D7A3-7DAD-498E-A8D8-F68E2EAE980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A83C-8C3C-43A2-9E4B-6BB3B07AFD8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97F9-E7CC-41A7-BC5A-F8762283C5D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9C04-96CB-46D5-8F5B-4A03F1D54A6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DB05-B236-446D-A60B-D55845B4729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179D-8058-42F3-88DF-CF5FBBFA576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A8AC-48A8-49AA-9607-9F15840A560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82A4-1CA3-40D1-B825-33B8E3D4CBD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C4BF-BC79-4E76-B659-2AB476F5F63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E908-DF1B-4B38-A119-98DF6830C81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C35A-F595-483A-A1CD-EFE08DB0C03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D070-3213-4FC2-8E6B-F474105B9CE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ED46-F7B8-4907-A6C8-0461ADF0E70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27BB-450B-4441-A0DE-B2F5ECAC90F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1818-EDA3-415E-BE47-A1A4E3B3146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3263-07EE-4B12-93AD-3463CB15865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2E9D-EE74-40F6-9013-21D040C0AA4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88E5-3827-42AB-AE6D-7D477918815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0C3A-C40E-4388-835E-D5E6844A9D1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BD68-E199-4BD0-A5BE-9AEC54F734F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63A0-EAA1-40F5-B687-FECFEDD50A9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043C-A45D-4B16-8F1C-CD5537AE2D9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EFCA-2172-4E35-87F7-C674FE55960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ABA8-16C2-49AB-B04C-BC9EB801653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56DE-C2D9-4896-9DCE-548E9798E56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0883-F85A-4637-B956-28E99D8642E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E431-EA78-444D-8A5A-C5AA02DD42D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4A5E-2B99-4279-A3E6-70F70AFBD09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1EE4-21E4-44F3-AF86-C75FCBB6735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E0788-BBEA-43EB-A408-817003FC2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142FA-B4F3-443F-9B4D-11A6AC6C8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F30F9-1491-416D-8865-DBC1B88E5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88ADC-7FB5-442D-831B-9D9484C50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C3D66-9278-46BB-A973-196D63AED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C6203-F1E0-4A61-8FA3-C65D74902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0CCDB-0799-4975-A70D-6D7C0A5B0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DEE5C-C08A-4B11-B791-A36830BBA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C3271-6171-4EDC-8BF9-AA1F9FAE2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C0749-0FF5-4942-8331-376CCC188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22C60-9423-419E-8ADB-0B15838B9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0C805-C6F5-4C93-88C1-BE4436EA7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2C4F-8301-4B63-8CEA-1FEED3BF2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Times New Roman"/>
              </a:rPr>
              <a:t>Супервизия деятельности </a:t>
            </a:r>
            <a:br>
              <a:rPr sz="4000"/>
            </a:br>
            <a:r>
              <a:rPr b="1" lang="ru-RU" sz="4000" spc="-1" strike="noStrike">
                <a:solidFill>
                  <a:srgbClr val="0033cc"/>
                </a:solidFill>
                <a:latin typeface="Times New Roman"/>
              </a:rPr>
              <a:t>психолога-практика</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837720"/>
            <a:ext cx="6400800" cy="838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Кулешов Павел Геннадьеви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7315200" cy="83808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ea typeface="Times New Roman"/>
              </a:rPr>
              <a:t>Глава 1. Нахождение причин сбоев</a:t>
            </a:r>
            <a:br>
              <a:rPr sz="2800"/>
            </a:br>
            <a:br>
              <a:rPr sz="2800"/>
            </a:br>
            <a:endParaRPr b="0" lang="en-US" sz="2800" spc="-1" strike="noStrike">
              <a:solidFill>
                <a:srgbClr val="000000"/>
              </a:solidFill>
              <a:latin typeface="Times New Roman"/>
            </a:endParaRPr>
          </a:p>
        </p:txBody>
      </p:sp>
      <p:sp>
        <p:nvSpPr>
          <p:cNvPr id="66" name="Rectangle 3"/>
          <p:cNvSpPr/>
          <p:nvPr/>
        </p:nvSpPr>
        <p:spPr>
          <a:xfrm>
            <a:off x="457200" y="990720"/>
            <a:ext cx="81532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При системном рассмотрении этой технологии, напрашивается расчленение её на четыре составляющих:</a:t>
            </a:r>
            <a:br>
              <a:rPr sz="2400"/>
            </a:br>
            <a:r>
              <a:rPr b="0" lang="ru-RU" sz="2400" spc="-1" strike="noStrike">
                <a:solidFill>
                  <a:srgbClr val="0033cc"/>
                </a:solidFill>
                <a:latin typeface="Times New Roman"/>
                <a:ea typeface="Times New Roman"/>
              </a:rPr>
              <a:t>1) Исследование ВНЕШНИХ обстоятельств деятельности психолога-практика;</a:t>
            </a:r>
            <a:br>
              <a:rPr sz="2400"/>
            </a:br>
            <a:r>
              <a:rPr b="0" lang="ru-RU" sz="2400" spc="-1" strike="noStrike">
                <a:solidFill>
                  <a:srgbClr val="0033cc"/>
                </a:solidFill>
                <a:latin typeface="Times New Roman"/>
                <a:ea typeface="Times New Roman"/>
              </a:rPr>
              <a:t>2) Исследование ВНУТРЕННИХ обстоятельств деятельности психолога-практика;</a:t>
            </a:r>
            <a:br>
              <a:rPr sz="2400"/>
            </a:br>
            <a:r>
              <a:rPr b="0" lang="ru-RU" sz="2400" spc="-1" strike="noStrike">
                <a:solidFill>
                  <a:srgbClr val="0033cc"/>
                </a:solidFill>
                <a:latin typeface="Times New Roman"/>
                <a:ea typeface="Times New Roman"/>
              </a:rPr>
              <a:t>3) Исследование особенностей психотехнологий, применяемых психологом-практиком, его методологической и методической оснащённости. В этом направлении исследования основное внимание уделяется САМОЙ ПРАКТИКЕ психолога. </a:t>
            </a:r>
            <a:br>
              <a:rPr sz="2400"/>
            </a:br>
            <a:r>
              <a:rPr b="0" lang="ru-RU" sz="2400" spc="-1" strike="noStrike">
                <a:solidFill>
                  <a:srgbClr val="0033cc"/>
                </a:solidFill>
                <a:latin typeface="Times New Roman"/>
                <a:ea typeface="Times New Roman"/>
              </a:rPr>
              <a:t>4) Исследование взаимодействий психолога в рамках учреждения, в котором он работает.</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0912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cc"/>
                </a:solidFill>
                <a:latin typeface="Peterburg"/>
                <a:ea typeface="Times New Roman"/>
              </a:rPr>
              <a:t>Системное рассмотрение супервизорской технологии</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68" name="Picture 5" descr=""/>
          <p:cNvPicPr/>
          <p:nvPr/>
        </p:nvPicPr>
        <p:blipFill>
          <a:blip r:embed="rId1"/>
          <a:stretch/>
        </p:blipFill>
        <p:spPr>
          <a:xfrm>
            <a:off x="304920" y="2514600"/>
            <a:ext cx="8542080" cy="285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Внешние» обстоятельства</a:t>
            </a:r>
            <a:endParaRPr b="0" lang="en-US" sz="4000" spc="-1" strike="noStrike">
              <a:solidFill>
                <a:srgbClr val="000000"/>
              </a:solidFill>
              <a:latin typeface="Times New Roman"/>
            </a:endParaRPr>
          </a:p>
        </p:txBody>
      </p:sp>
      <p:sp>
        <p:nvSpPr>
          <p:cNvPr id="70" name="Rectangle 3"/>
          <p:cNvSpPr/>
          <p:nvPr/>
        </p:nvSpPr>
        <p:spPr>
          <a:xfrm>
            <a:off x="228600" y="1371600"/>
            <a:ext cx="8534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 "внешними" обстоятельствами подразумевается общая культурная среда, в которой родился и вырос психолог, привившая ему многие само собой разумеющиеся нормы общественной жизни (обычаи, традиции), представления о действительности и т.п., создающие трудно осознаваемые ограничения в его деятельности.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итоге этого исследования у супервизора складывается </a:t>
            </a:r>
            <a:r>
              <a:rPr b="1" lang="ru-RU" sz="2800" spc="-1" strike="noStrike">
                <a:solidFill>
                  <a:srgbClr val="000000"/>
                </a:solidFill>
                <a:latin typeface="Times New Roman"/>
              </a:rPr>
              <a:t>образ внешних обстоятельств</a:t>
            </a:r>
            <a:r>
              <a:rPr b="0" lang="ru-RU" sz="2800" spc="-1" strike="noStrike">
                <a:solidFill>
                  <a:srgbClr val="000000"/>
                </a:solidFill>
                <a:latin typeface="Times New Roman"/>
              </a:rPr>
              <a:t>, оказавших значительное влияние на супервизируемого специалист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Внутренние» обстоятельства</a:t>
            </a:r>
            <a:endParaRPr b="0" lang="en-US" sz="4000" spc="-1" strike="noStrike">
              <a:solidFill>
                <a:srgbClr val="000000"/>
              </a:solidFill>
              <a:latin typeface="Times New Roman"/>
            </a:endParaRPr>
          </a:p>
        </p:txBody>
      </p:sp>
      <p:sp>
        <p:nvSpPr>
          <p:cNvPr id="72" name="Rectangle 3"/>
          <p:cNvSpPr/>
          <p:nvPr/>
        </p:nvSpPr>
        <p:spPr>
          <a:xfrm>
            <a:off x="304920" y="1523880"/>
            <a:ext cx="830556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 "внутренними" обстоятельствами подразумеваются условия индивидуального жизненного пути психолога, особенности его личных представлений о действительности, его потребностей и способностей. У него может накопиться много предрассудков и предубеждений, которые могут слабо осознаваться и существенно ограничивать его профессиональные возможности.</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итоге исследования складывается </a:t>
            </a:r>
            <a:r>
              <a:rPr b="1" lang="ru-RU" sz="2800" spc="-1" strike="noStrike">
                <a:solidFill>
                  <a:srgbClr val="000000"/>
                </a:solidFill>
                <a:latin typeface="Times New Roman"/>
              </a:rPr>
              <a:t>индивидуальный психологический портрет</a:t>
            </a:r>
            <a:r>
              <a:rPr b="0" lang="ru-RU" sz="2800" spc="-1" strike="noStrike">
                <a:solidFill>
                  <a:srgbClr val="000000"/>
                </a:solidFill>
                <a:latin typeface="Times New Roman"/>
              </a:rPr>
              <a:t> супервизируемого специалист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Практика психолога</a:t>
            </a:r>
            <a:endParaRPr b="0" lang="en-US" sz="4000" spc="-1" strike="noStrike">
              <a:solidFill>
                <a:srgbClr val="000000"/>
              </a:solidFill>
              <a:latin typeface="Times New Roman"/>
            </a:endParaRPr>
          </a:p>
        </p:txBody>
      </p:sp>
      <p:sp>
        <p:nvSpPr>
          <p:cNvPr id="74" name="Rectangle 3"/>
          <p:cNvSpPr/>
          <p:nvPr/>
        </p:nvSpPr>
        <p:spPr>
          <a:xfrm>
            <a:off x="685800" y="1752480"/>
            <a:ext cx="8001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 "самой практикой" подразумеваются обстоятельства, порождающие индивидуальный профессиональный почерк, некий набор шаблонов и автоматизмов, которые могут мало осознаваться психологом. (Тут могут быть кстати аудио- и видеозаписи работы психолога с клиентами.)</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итоге этого исследования у супервизора складывается </a:t>
            </a:r>
            <a:r>
              <a:rPr b="1" lang="ru-RU" sz="2800" spc="-1" strike="noStrike">
                <a:solidFill>
                  <a:srgbClr val="000000"/>
                </a:solidFill>
                <a:latin typeface="Times New Roman"/>
              </a:rPr>
              <a:t>образ практической деятельности</a:t>
            </a:r>
            <a:r>
              <a:rPr b="0" lang="ru-RU" sz="2800" spc="-1" strike="noStrike">
                <a:solidFill>
                  <a:srgbClr val="000000"/>
                </a:solidFill>
                <a:latin typeface="Times New Roman"/>
              </a:rPr>
              <a:t> супервизируемого специалист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Рамки учреждения»</a:t>
            </a:r>
            <a:endParaRPr b="0" lang="en-US" sz="4000" spc="-1" strike="noStrike">
              <a:solidFill>
                <a:srgbClr val="000000"/>
              </a:solidFill>
              <a:latin typeface="Times New Roman"/>
            </a:endParaRPr>
          </a:p>
        </p:txBody>
      </p:sp>
      <p:sp>
        <p:nvSpPr>
          <p:cNvPr id="76" name="Rectangle 3"/>
          <p:cNvSpPr/>
          <p:nvPr/>
        </p:nvSpPr>
        <p:spPr>
          <a:xfrm>
            <a:off x="304920" y="1371600"/>
            <a:ext cx="828648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од "рамками учреждения" подразумеваются корпоративные взаимоотношения, сложившиеся в учреждении, в котором работает психолог. Поскольку административные работники, как правило, обладая большей административной властью, бывают менее компетентны в частных специальных вопросах, то они могут принимать плохо проработанные решения, затрудняющие работу узких специалистов.</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 итоге этого исследования у супервизора складывается </a:t>
            </a:r>
            <a:r>
              <a:rPr b="1" lang="en-US" sz="2800" spc="-1" strike="noStrike">
                <a:solidFill>
                  <a:srgbClr val="000000"/>
                </a:solidFill>
                <a:latin typeface="Times New Roman"/>
              </a:rPr>
              <a:t>образ субкультуры учреждения</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8088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33cc"/>
                </a:solidFill>
                <a:latin typeface="Times New Roman"/>
              </a:rPr>
              <a:t>Выдача заключения об итогах первой части супервизорской работы</a:t>
            </a:r>
            <a:endParaRPr b="0" lang="en-US" sz="4000" spc="-1" strike="noStrike">
              <a:solidFill>
                <a:srgbClr val="000000"/>
              </a:solidFill>
              <a:latin typeface="Times New Roman"/>
            </a:endParaRPr>
          </a:p>
        </p:txBody>
      </p:sp>
      <p:sp>
        <p:nvSpPr>
          <p:cNvPr id="78" name="Rectangle 3"/>
          <p:cNvSpPr/>
          <p:nvPr/>
        </p:nvSpPr>
        <p:spPr>
          <a:xfrm>
            <a:off x="609480" y="1752480"/>
            <a:ext cx="80773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осле проведения исследования супервизор выдаёт своё заключение о состоянии работы психолога в данном учреждении. В случае обнаружения каких-либо недостатков, выдаются советы, призванные помочь в их устранении.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 основании этого "заключения" проводится разбор работы психолога совместно со всеми заинтересованными сотрудниками. Целью такого разбора является поиск возможностей быстрого повышения эффективности работы психолога, как элемента системы данного учреждения.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Не всё сразу</a:t>
            </a:r>
            <a:endParaRPr b="0" lang="en-US" sz="4000" spc="-1" strike="noStrike">
              <a:solidFill>
                <a:srgbClr val="000000"/>
              </a:solidFill>
              <a:latin typeface="Times New Roman"/>
            </a:endParaRPr>
          </a:p>
        </p:txBody>
      </p:sp>
      <p:sp>
        <p:nvSpPr>
          <p:cNvPr id="80" name="Rectangle 3"/>
          <p:cNvSpPr/>
          <p:nvPr/>
        </p:nvSpPr>
        <p:spPr>
          <a:xfrm>
            <a:off x="685800" y="1676520"/>
            <a:ext cx="76201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Все остальные проблемы, требующие более кропотливой и вдумчивой работы для их решения, целесообразно выделить в особый блок. Поиски решения таких проблем могут оказаться сложными и затяжными. Они могут потребовать привлечения специалистов для  более тщательного исследования и разработки на его основе реалистичных планов устранения проблем.</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дно хорошо – ПРОБЛЕМЫ ИЗВЕСТН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Глава 2. Устранение причин сбоев</a:t>
            </a:r>
            <a:endParaRPr b="0" lang="en-US" sz="2800" spc="-1" strike="noStrike">
              <a:solidFill>
                <a:srgbClr val="000000"/>
              </a:solidFill>
              <a:latin typeface="Times New Roman"/>
            </a:endParaRPr>
          </a:p>
        </p:txBody>
      </p:sp>
      <p:sp>
        <p:nvSpPr>
          <p:cNvPr id="82" name="Rectangle 3"/>
          <p:cNvSpPr/>
          <p:nvPr/>
        </p:nvSpPr>
        <p:spPr>
          <a:xfrm>
            <a:off x="457200" y="1127160"/>
            <a:ext cx="830592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Peterburg"/>
                <a:ea typeface="Times New Roman"/>
              </a:rPr>
              <a:t>Если в первой части своей работы супервизор выступает в роли ЭКСПЕРТА, стремящегося тщательно исследовать все стороны работы психолога, то во второй части супервизии, он оказывается в роли НАСТАВНИКА и</a:t>
            </a:r>
            <a:r>
              <a:rPr b="0" lang="ru-RU" sz="2000" spc="-1" strike="noStrike">
                <a:solidFill>
                  <a:srgbClr val="0033cc"/>
                </a:solidFill>
                <a:latin typeface="Peterburg"/>
              </a:rPr>
              <a:t>,</a:t>
            </a:r>
            <a:r>
              <a:rPr b="0" lang="ru-RU" sz="2000" spc="-1" strike="noStrike">
                <a:solidFill>
                  <a:srgbClr val="0033cc"/>
                </a:solidFill>
                <a:latin typeface="Peterburg"/>
                <a:ea typeface="Times New Roman"/>
              </a:rPr>
              <a:t> в какой-то степени</a:t>
            </a:r>
            <a:r>
              <a:rPr b="0" lang="ru-RU" sz="2000" spc="-1" strike="noStrike">
                <a:solidFill>
                  <a:srgbClr val="0033cc"/>
                </a:solidFill>
                <a:latin typeface="Peterburg"/>
              </a:rPr>
              <a:t>,</a:t>
            </a:r>
            <a:r>
              <a:rPr b="0" lang="ru-RU" sz="2000" spc="-1" strike="noStrike">
                <a:solidFill>
                  <a:srgbClr val="0033cc"/>
                </a:solidFill>
                <a:latin typeface="Peterburg"/>
                <a:ea typeface="Times New Roman"/>
              </a:rPr>
              <a:t> РЕФОРМАТОРА.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Peterburg"/>
                <a:ea typeface="Times New Roman"/>
              </a:rPr>
              <a:t>Эта работа также членится на четыре составляющих:</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Peterburg"/>
                <a:ea typeface="Times New Roman"/>
              </a:rPr>
              <a:t>1) Устранение ВНЕШНИХ причин, создавших затруднения в работе психолога;</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Peterburg"/>
                <a:ea typeface="Times New Roman"/>
              </a:rPr>
              <a:t>2) Устранение ВНУТРЕННИХ причин, создавших затруднения в работе психолога;</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Peterburg"/>
                <a:ea typeface="Times New Roman"/>
              </a:rPr>
              <a:t>3) Устранение методологических и методических просчётов в работе психолога, обучение его новым эффективным методам и приёмам работ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Peterburg"/>
                <a:ea typeface="Times New Roman"/>
              </a:rPr>
              <a:t>4) В случае необходимости супервизор может предложить администрации учреждения, в котором работает психолог, новые варианты должностных инструкций и служебных отношений, повышающих эффективность работы психологов данного учреждения.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Трудно формализовать</a:t>
            </a:r>
            <a:endParaRPr b="0" lang="en-US" sz="4000" spc="-1" strike="noStrike">
              <a:solidFill>
                <a:srgbClr val="000000"/>
              </a:solidFill>
              <a:latin typeface="Times New Roman"/>
            </a:endParaRPr>
          </a:p>
        </p:txBody>
      </p:sp>
      <p:sp>
        <p:nvSpPr>
          <p:cNvPr id="84" name="Rectangle 3"/>
          <p:cNvSpPr/>
          <p:nvPr/>
        </p:nvSpPr>
        <p:spPr>
          <a:xfrm>
            <a:off x="457200" y="1371600"/>
            <a:ext cx="83818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 идеале</a:t>
            </a:r>
            <a:r>
              <a:rPr b="0" lang="en-US" sz="2400" spc="-1" strike="noStrike">
                <a:solidFill>
                  <a:srgbClr val="000000"/>
                </a:solidFill>
                <a:latin typeface="Times New Roman"/>
              </a:rPr>
              <a:t> психолог-практик должен быть открыт новым фактам, случающимся в его работе, и оперативно включать их в свою картину мира. Он должен быть терпимым к странностям клиентов и находчивым в нестандартных обстоятельствах. Он должен…</a:t>
            </a:r>
            <a:r>
              <a:rPr b="0" lang="en-US" sz="2400" spc="-1" strike="noStrike">
                <a:solidFill>
                  <a:srgbClr val="000000"/>
                </a:solidFill>
                <a:latin typeface="Peterburg"/>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днако, р</a:t>
            </a:r>
            <a:r>
              <a:rPr b="0" lang="en-US" sz="2400" spc="-1" strike="noStrike">
                <a:solidFill>
                  <a:srgbClr val="000000"/>
                </a:solidFill>
                <a:latin typeface="Times New Roman"/>
                <a:ea typeface="Times New Roman"/>
              </a:rPr>
              <a:t>азнообразие причин, создающих затруднения в работе психологов, бывает настолько велико, что делает невозможной формализацию работы для их устранения. В каждом конкретном случае супервизору приходится подстраиваться под наличные обстоятельства и действовать сообразно обстановке</a:t>
            </a:r>
            <a:r>
              <a:rPr b="0" lang="en-US" sz="2400" spc="-1" strike="noStrike">
                <a:solidFill>
                  <a:srgbClr val="000000"/>
                </a:solidFill>
                <a:latin typeface="Times New Roman"/>
              </a:rPr>
              <a:t>, всякий раз </a:t>
            </a:r>
            <a:r>
              <a:rPr b="1" lang="en-US" sz="2400" spc="-1" strike="noStrike">
                <a:solidFill>
                  <a:srgbClr val="000000"/>
                </a:solidFill>
                <a:latin typeface="Times New Roman"/>
              </a:rPr>
              <a:t>имея в виду</a:t>
            </a:r>
            <a:r>
              <a:rPr b="0" lang="en-US" sz="2400" spc="-1" strike="noStrike">
                <a:solidFill>
                  <a:srgbClr val="000000"/>
                </a:solidFill>
                <a:latin typeface="Times New Roman"/>
              </a:rPr>
              <a:t> </a:t>
            </a:r>
            <a:r>
              <a:rPr b="1" lang="en-US" sz="2400" spc="-1" strike="noStrike">
                <a:solidFill>
                  <a:srgbClr val="000000"/>
                </a:solidFill>
                <a:latin typeface="Times New Roman"/>
              </a:rPr>
              <a:t>приближение к идеалу</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6200" y="228564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Что такое супервизия и для чего нужна она?</a:t>
            </a:r>
            <a:endParaRPr b="0" lang="en-US" sz="32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cc"/>
                </a:solidFill>
                <a:latin typeface="Times New Roman"/>
              </a:rPr>
              <a:t>(Потерпите до седьмого слайд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Куда стремиться?</a:t>
            </a:r>
            <a:endParaRPr b="0" lang="en-US" sz="4000" spc="-1" strike="noStrike">
              <a:solidFill>
                <a:srgbClr val="000000"/>
              </a:solidFill>
              <a:latin typeface="Times New Roman"/>
            </a:endParaRPr>
          </a:p>
        </p:txBody>
      </p:sp>
      <p:sp>
        <p:nvSpPr>
          <p:cNvPr id="86" name="Rectangle 4"/>
          <p:cNvSpPr/>
          <p:nvPr/>
        </p:nvSpPr>
        <p:spPr>
          <a:xfrm>
            <a:off x="571680" y="5334120"/>
            <a:ext cx="788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В общих чертах можно выделить следующ</a:t>
            </a:r>
            <a:r>
              <a:rPr b="0" lang="en-US" sz="2400" spc="-1" strike="noStrike">
                <a:solidFill>
                  <a:srgbClr val="000000"/>
                </a:solidFill>
                <a:latin typeface="Times New Roman"/>
              </a:rPr>
              <a:t>ие направления</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87" name="AutoShape 5"/>
          <p:cNvSpPr/>
          <p:nvPr/>
        </p:nvSpPr>
        <p:spPr>
          <a:xfrm rot="20494200">
            <a:off x="3962160" y="5943240"/>
            <a:ext cx="609480" cy="53352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6" descr=""/>
          <p:cNvPicPr/>
          <p:nvPr/>
        </p:nvPicPr>
        <p:blipFill>
          <a:blip r:embed="rId1"/>
          <a:stretch/>
        </p:blipFill>
        <p:spPr>
          <a:xfrm>
            <a:off x="0" y="1803240"/>
            <a:ext cx="8305920" cy="316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Устранение «внешних» причин</a:t>
            </a:r>
            <a:endParaRPr b="0" lang="en-US" sz="4000" spc="-1" strike="noStrike">
              <a:solidFill>
                <a:srgbClr val="000000"/>
              </a:solidFill>
              <a:latin typeface="Times New Roman"/>
            </a:endParaRPr>
          </a:p>
        </p:txBody>
      </p:sp>
      <p:sp>
        <p:nvSpPr>
          <p:cNvPr id="90" name="Rectangle 3"/>
          <p:cNvSpPr/>
          <p:nvPr/>
        </p:nvSpPr>
        <p:spPr>
          <a:xfrm>
            <a:off x="457200" y="1138320"/>
            <a:ext cx="83059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a:t>
            </a:r>
            <a:r>
              <a:rPr b="0" lang="en-US" sz="2400" spc="-1" strike="noStrike">
                <a:solidFill>
                  <a:srgbClr val="000000"/>
                </a:solidFill>
                <a:latin typeface="Times New Roman"/>
                <a:ea typeface="Times New Roman"/>
              </a:rPr>
              <a:t>сихолог-практик</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в силу своего рождения и длительного пребывания в окружающей его общественной среде, оказывается</a:t>
            </a:r>
            <a:r>
              <a:rPr b="0" lang="en-US" sz="2400" spc="-1" strike="noStrike">
                <a:solidFill>
                  <a:srgbClr val="000000"/>
                </a:solidFill>
                <a:latin typeface="Times New Roman"/>
                <a:ea typeface="Times New Roman"/>
              </a:rPr>
              <a:t> носителем всевозможных общественных  </a:t>
            </a:r>
            <a:r>
              <a:rPr b="0" lang="en-US" sz="2400" spc="-1" strike="noStrike">
                <a:solidFill>
                  <a:srgbClr val="000000"/>
                </a:solidFill>
                <a:latin typeface="Times New Roman"/>
              </a:rPr>
              <a:t>убеждений и </a:t>
            </a:r>
            <a:r>
              <a:rPr b="0" lang="en-US" sz="2400" spc="-1" strike="noStrike">
                <a:solidFill>
                  <a:srgbClr val="000000"/>
                </a:solidFill>
                <a:latin typeface="Times New Roman"/>
                <a:ea typeface="Times New Roman"/>
              </a:rPr>
              <a:t>предубеждений, которые </a:t>
            </a:r>
            <a:r>
              <a:rPr b="0" lang="en-US" sz="2400" spc="-1" strike="noStrike">
                <a:solidFill>
                  <a:srgbClr val="000000"/>
                </a:solidFill>
                <a:latin typeface="Times New Roman"/>
              </a:rPr>
              <a:t>могут существенно влиять на его мировоззрение</a:t>
            </a:r>
            <a:r>
              <a:rPr b="0" lang="en-US" sz="24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Рамки этого мировоззрения (как осознаваемые, так и не осознаваемые) могут оказаться узкими для принятия не вписывающихся в них, как проверенных практикой фактов, так и поведения клиентов, являющихся носителями иных культурных стереотипов.</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упервизор призван помочь психологу в устранении таких мировоззренческих ограничени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200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Устранение «внутренних» причин</a:t>
            </a:r>
            <a:endParaRPr b="0" lang="en-US" sz="4000" spc="-1" strike="noStrike">
              <a:solidFill>
                <a:srgbClr val="000000"/>
              </a:solidFill>
              <a:latin typeface="Times New Roman"/>
            </a:endParaRPr>
          </a:p>
        </p:txBody>
      </p:sp>
      <p:sp>
        <p:nvSpPr>
          <p:cNvPr id="92" name="Rectangle 3"/>
          <p:cNvSpPr/>
          <p:nvPr/>
        </p:nvSpPr>
        <p:spPr>
          <a:xfrm>
            <a:off x="609480" y="1162080"/>
            <a:ext cx="79250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сихолог – тоже человек! И</a:t>
            </a:r>
            <a:r>
              <a:rPr b="0" lang="en-US" sz="2400" spc="-1" strike="noStrike">
                <a:solidFill>
                  <a:srgbClr val="000000"/>
                </a:solidFill>
                <a:latin typeface="Times New Roman"/>
                <a:ea typeface="Times New Roman"/>
              </a:rPr>
              <a:t>з-за отсутствия в его личном опыте каких-либо переживаний, </a:t>
            </a:r>
            <a:r>
              <a:rPr b="0" lang="en-US" sz="2400" spc="-1" strike="noStrike">
                <a:solidFill>
                  <a:srgbClr val="000000"/>
                </a:solidFill>
                <a:latin typeface="Times New Roman"/>
              </a:rPr>
              <a:t>он </a:t>
            </a:r>
            <a:r>
              <a:rPr b="0" lang="en-US" sz="2400" spc="-1" strike="noStrike">
                <a:solidFill>
                  <a:srgbClr val="000000"/>
                </a:solidFill>
                <a:latin typeface="Times New Roman"/>
                <a:ea typeface="Times New Roman"/>
              </a:rPr>
              <a:t>может на этом основании признать такие переживания несуществующими. Это не позволит ему поверить клиентам, утверждающим, что они испытывают ИМЕННО ТАКИЕ переживания.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В картине мира психолога может не найтись места для</a:t>
            </a:r>
            <a:r>
              <a:rPr b="0" lang="en-US" sz="2400" spc="-1" strike="noStrike">
                <a:solidFill>
                  <a:srgbClr val="000000"/>
                </a:solidFill>
                <a:latin typeface="Times New Roman"/>
              </a:rPr>
              <a:t> волшебства и знахарства, астрологии и хиромантии</a:t>
            </a:r>
            <a:r>
              <a:rPr b="0" lang="en-US" sz="2400" spc="-1" strike="noStrike">
                <a:solidFill>
                  <a:srgbClr val="000000"/>
                </a:solidFill>
                <a:latin typeface="Times New Roman"/>
                <a:ea typeface="Times New Roman"/>
              </a:rPr>
              <a:t>. Тогда всех своих клиентов,</a:t>
            </a:r>
            <a:r>
              <a:rPr b="0" lang="en-US" sz="2400" spc="-1" strike="noStrike">
                <a:solidFill>
                  <a:srgbClr val="000000"/>
                </a:solidFill>
                <a:latin typeface="Times New Roman"/>
              </a:rPr>
              <a:t> всерьёз воспринимающих подобные явления</a:t>
            </a:r>
            <a:r>
              <a:rPr b="0" lang="en-US" sz="2400" spc="-1" strike="noStrike">
                <a:solidFill>
                  <a:srgbClr val="000000"/>
                </a:solidFill>
                <a:latin typeface="Times New Roman"/>
                <a:ea typeface="Times New Roman"/>
              </a:rPr>
              <a:t>, он наверняка сразу же зачислит в ряды шизофреников</a:t>
            </a:r>
            <a:r>
              <a:rPr b="0" lang="en-US" sz="2400" spc="-1" strike="noStrike">
                <a:solidFill>
                  <a:srgbClr val="000000"/>
                </a:solidFill>
                <a:latin typeface="Times New Roman"/>
              </a:rPr>
              <a:t> (Ну, или, хотя бы, сразу станет меньше их уважать, только из-за этого.)</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упервизор призван помочь психологу в устранении, или, хотя бы, в смягчении подобных предубеждени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Устранение методологических и методических просчётов</a:t>
            </a:r>
            <a:endParaRPr b="0" lang="en-US" sz="4000" spc="-1" strike="noStrike">
              <a:solidFill>
                <a:srgbClr val="000000"/>
              </a:solidFill>
              <a:latin typeface="Times New Roman"/>
            </a:endParaRPr>
          </a:p>
        </p:txBody>
      </p:sp>
      <p:sp>
        <p:nvSpPr>
          <p:cNvPr id="94" name="Rectangle 3"/>
          <p:cNvSpPr/>
          <p:nvPr/>
        </p:nvSpPr>
        <p:spPr>
          <a:xfrm>
            <a:off x="533520" y="1295280"/>
            <a:ext cx="81532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отя нередко бывает, что к одной и той же цели можно прийти разными путями, зато затраты усилий на преодоление пути могут оказаться неравноценными.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мея малый арсенал психотехнологий, психолог может действовать неэффективно, поэтому супервизор призван помочь психологу в освоении новых психотехнологий и усовершенствованию уже имеющихс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ля этого супервизор должен иметь возможность наблюдать работу психолога в естественных для него обстоятельствах, с последующим конструктивным совместным разбором.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обходимости и возможности супервизор может организовать индивидуальное обучение психолога, либо посоветовать ему участие в определённых тренингах, для овладения эффективными методами работ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Устранение причин, возникших на уровне «места работы»</a:t>
            </a:r>
            <a:endParaRPr b="0" lang="en-US" sz="4000" spc="-1" strike="noStrike">
              <a:solidFill>
                <a:srgbClr val="000000"/>
              </a:solidFill>
              <a:latin typeface="Times New Roman"/>
            </a:endParaRPr>
          </a:p>
        </p:txBody>
      </p:sp>
      <p:sp>
        <p:nvSpPr>
          <p:cNvPr id="96" name="Rectangle 3"/>
          <p:cNvSpPr/>
          <p:nvPr/>
        </p:nvSpPr>
        <p:spPr>
          <a:xfrm>
            <a:off x="533520" y="1600200"/>
            <a:ext cx="807696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чень часто психолог не работает "сам по себе". Он бывает вписан в какие-то учрежденческие рамки, занимает какую-либо штатную должность, кем-то управляет и кому-то подчиняется. В некотором смысле он является "винтиком" в административном механизме. И ему приходится считаться со сложившимися в этом учреждении правилами и запретами. Эти правила далеко не всегда способствуют раскрытию его профессионального потенциала.</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Отношения в коллективе тоже не всегда приближаются к идеалу</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упервизор должен иметь возможность при необходимости влиять на корпоративную субкультуру и предлагать штатные перестановки, повышающие эффективность работы учреждения в целом.</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В противном случае усилия, затраченные на переподготовку психолога, могут оказаться напрасным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77724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Peterburg"/>
                <a:ea typeface="Times New Roman"/>
              </a:rPr>
              <a:t>Далеко не все эти (и многие другие!) причины могут быть устранены супервизором.</a:t>
            </a:r>
            <a:br>
              <a:rPr sz="3200"/>
            </a:br>
            <a:r>
              <a:rPr b="0" lang="en-US" sz="3200" spc="-1" strike="noStrike">
                <a:solidFill>
                  <a:srgbClr val="0033cc"/>
                </a:solidFill>
                <a:latin typeface="Peterburg"/>
                <a:ea typeface="Times New Roman"/>
              </a:rPr>
              <a:t>У супервизора тоже есть пределы компетентности и полномочий.</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848720" cy="36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cc"/>
                </a:solidFill>
                <a:latin typeface="Times New Roman"/>
              </a:rPr>
              <a:t>У Заказчика супервизии тоже есть пределы компетентности и полномочий. </a:t>
            </a:r>
            <a:br>
              <a:rPr sz="3200"/>
            </a:br>
            <a:r>
              <a:rPr b="0" lang="ru-RU" sz="3200" spc="-1" strike="noStrike">
                <a:solidFill>
                  <a:srgbClr val="0033cc"/>
                </a:solidFill>
                <a:latin typeface="Times New Roman"/>
              </a:rPr>
              <a:t>В действительности супервизору приходится осуществлять супервизию в пределах, которые удастся согласовать с Заказчико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Глава 3. Формы работы</a:t>
            </a:r>
            <a:endParaRPr b="0" lang="en-US" sz="2800" spc="-1" strike="noStrike">
              <a:solidFill>
                <a:srgbClr val="000000"/>
              </a:solidFill>
              <a:latin typeface="Times New Roman"/>
            </a:endParaRPr>
          </a:p>
        </p:txBody>
      </p:sp>
      <p:sp>
        <p:nvSpPr>
          <p:cNvPr id="100" name="Rectangle 3"/>
          <p:cNvSpPr/>
          <p:nvPr/>
        </p:nvSpPr>
        <p:spPr>
          <a:xfrm>
            <a:off x="609480" y="1143000"/>
            <a:ext cx="8001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rPr>
              <a:t>Супервизору понадобится содействие сотрудников учреждения для того, чтобы вникнуть в суть сложившейся в данном учреждении корпоративной культуры и этик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rPr>
              <a:t>Понадобятся беседы с супервизируемым психологом и его непосредственным служебным окружением, для того, чтобы лучше понять особенности взаимоотношений внутри коллектив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rPr>
              <a:t>Понадобятся всевозможные текстовые, аудио- и видеозаписи, раскрывающие особенности профессиональной деятельности психолога, которые можно будет конструктивно обсуждать с опорой на факт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rPr>
              <a:t>Вполне возможно, что некоторым сотрудникам, создающим проблемы для работы супервизируемого психолога, придётся оказать психологическую помощь.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rPr>
              <a:t>Для обучения психолога новым методам психологической работы супервизору может понадобится проведение семинаров и тренингов с участием как сотрудников данного учреждения, так и иных приглашённых людей.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112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Глава 4.1 Как оценить работу супервизора в роли ЭКСПЕРТА</a:t>
            </a:r>
            <a:endParaRPr b="0" lang="en-US" sz="2800" spc="-1" strike="noStrike">
              <a:solidFill>
                <a:srgbClr val="000000"/>
              </a:solidFill>
              <a:latin typeface="Times New Roman"/>
            </a:endParaRPr>
          </a:p>
        </p:txBody>
      </p:sp>
      <p:sp>
        <p:nvSpPr>
          <p:cNvPr id="102" name="Rectangle 3"/>
          <p:cNvSpPr/>
          <p:nvPr/>
        </p:nvSpPr>
        <p:spPr>
          <a:xfrm>
            <a:off x="304920" y="1219320"/>
            <a:ext cx="853416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ea typeface="Times New Roman"/>
              </a:rPr>
              <a:t>Основной причиной проведения супервизии бывают какие-либо сбои в работе.</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ea typeface="Times New Roman"/>
              </a:rPr>
              <a:t>В данном случае – это сбои в работе психолога (психологов), состоящих на службе в учреждении-заказчике. Заказчику хочется выяснить что же "пошло не так" и как сделать, чтобы не только устранить сбои, но и повысить эффективность работы.</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rPr>
              <a:t>Работа супервизора в роли ЭКСПЕРТА может быть оценена на основе выданных им Заключений, составленных с опорой на обнаруженные в ходе экспертного исследования факты и логически непротиворечиво сделанные из них выводы.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rPr>
              <a:t>Вряд ли стоит делать главным показателем эффективности работы ЭКСПЕРТА количество обнаруженных им проблем. Если экспертиза выполнена добротно, а проблем обнаружено мало, это ничуть не умаляет качество работы ЭКСПЕРТ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rPr>
              <a:t>Важным достоинством экспертного Заключения можно признать наличие в нём реалистических предложений по решению обнаруженных пробле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Глава 4.2 Как оценить работу супервизора в роли НАСТАВНИКА</a:t>
            </a:r>
            <a:endParaRPr b="0" lang="en-US" sz="2800" spc="-1" strike="noStrike">
              <a:solidFill>
                <a:srgbClr val="000000"/>
              </a:solidFill>
              <a:latin typeface="Times New Roman"/>
            </a:endParaRPr>
          </a:p>
        </p:txBody>
      </p:sp>
      <p:sp>
        <p:nvSpPr>
          <p:cNvPr id="104" name="Rectangle 3"/>
          <p:cNvSpPr/>
          <p:nvPr/>
        </p:nvSpPr>
        <p:spPr>
          <a:xfrm>
            <a:off x="762120" y="2057400"/>
            <a:ext cx="784836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ea typeface="Times New Roman"/>
              </a:rPr>
              <a:t>Работа супервизора в роли НАСТАВНИКА может быть оценена на основе разработанных им методик обучения новым психотехнологиям и рекомендаций соответствующих тренингов и прочих форм обучения. Если после проведения переобучения повысится технологическая оснащённость психолога, а его работа получит много положительных отзывов клиентов, сослуживцев и руководства, то можно признать работу супервизора успешной.</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ea typeface="Times New Roman"/>
              </a:rPr>
              <a:t>В какой-то степени эта часть работы зависит также от способностей и мотивации психолога (психологов), выступающего в роли ученика.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ea typeface="Times New Roman"/>
              </a:rPr>
              <a:t>Так что было бы неправильно всю ответственность за успех или неуспех обучения возложить на кого-то одного из этой пары.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ea typeface="Times New Roman"/>
              </a:rPr>
              <a:t>Системный метод рассмотрения явлений действительности</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53" name="Picture 6" descr=""/>
          <p:cNvPicPr/>
          <p:nvPr/>
        </p:nvPicPr>
        <p:blipFill>
          <a:blip r:embed="rId1"/>
          <a:stretch/>
        </p:blipFill>
        <p:spPr>
          <a:xfrm>
            <a:off x="0" y="2362320"/>
            <a:ext cx="8610480" cy="300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Глава 4.3 Как оценить работу супервизора в роли РЕФОРМАТОРА</a:t>
            </a:r>
            <a:endParaRPr b="0" lang="en-US" sz="2800" spc="-1" strike="noStrike">
              <a:solidFill>
                <a:srgbClr val="000000"/>
              </a:solidFill>
              <a:latin typeface="Times New Roman"/>
            </a:endParaRPr>
          </a:p>
        </p:txBody>
      </p:sp>
      <p:sp>
        <p:nvSpPr>
          <p:cNvPr id="106" name="Rectangle 3"/>
          <p:cNvSpPr/>
          <p:nvPr/>
        </p:nvSpPr>
        <p:spPr>
          <a:xfrm>
            <a:off x="1371600" y="2438280"/>
            <a:ext cx="6553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Если в ходе супервизии обнаружится, что в структурном подразделении учреждения, в котором работает супервизируемый психолог, есть обстоятельства, затрудняющие работу психолога, и супервизору удастся договориться с руководством учреждения об изменении этих обстоятельств, </a:t>
            </a:r>
            <a:r>
              <a:rPr b="0" lang="ru-RU" sz="2400" spc="-1" strike="noStrike">
                <a:solidFill>
                  <a:srgbClr val="0033cc"/>
                </a:solidFill>
                <a:latin typeface="Times New Roman"/>
              </a:rPr>
              <a:t> и работа психолога из-за этого облегчится, </a:t>
            </a:r>
            <a:r>
              <a:rPr b="0" lang="ru-RU" sz="2400" spc="-1" strike="noStrike">
                <a:solidFill>
                  <a:srgbClr val="0033cc"/>
                </a:solidFill>
                <a:latin typeface="Times New Roman"/>
                <a:ea typeface="Times New Roman"/>
              </a:rPr>
              <a:t>то можно признать, что супервизор преуспел в роли РЕФОРМАТОР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Times New Roman"/>
              </a:rPr>
              <a:t>На</a:t>
            </a:r>
            <a:r>
              <a:rPr b="0" lang="en-US" sz="4400" spc="-1" strike="noStrike">
                <a:solidFill>
                  <a:srgbClr val="000000"/>
                </a:solidFill>
                <a:latin typeface="Times New Roman"/>
              </a:rPr>
              <a:t> </a:t>
            </a:r>
            <a:r>
              <a:rPr b="0" lang="en-US" sz="4400" spc="-1" strike="noStrike">
                <a:solidFill>
                  <a:srgbClr val="993300"/>
                </a:solidFill>
                <a:latin typeface="Times New Roman"/>
              </a:rPr>
              <a:t>этом</a:t>
            </a:r>
            <a:r>
              <a:rPr b="0" lang="en-US" sz="4400" spc="-1" strike="noStrike">
                <a:solidFill>
                  <a:srgbClr val="000000"/>
                </a:solidFill>
                <a:latin typeface="Times New Roman"/>
              </a:rPr>
              <a:t> </a:t>
            </a:r>
            <a:r>
              <a:rPr b="0" lang="en-US" sz="4400" spc="-1" strike="noStrike">
                <a:solidFill>
                  <a:srgbClr val="00cc99"/>
                </a:solidFill>
                <a:latin typeface="Times New Roman"/>
              </a:rPr>
              <a:t>всё</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108" name="Picture 3" descr=""/>
          <p:cNvPicPr/>
          <p:nvPr/>
        </p:nvPicPr>
        <p:blipFill>
          <a:blip r:embed="rId1"/>
          <a:stretch/>
        </p:blipFill>
        <p:spPr>
          <a:xfrm>
            <a:off x="2971800" y="3124080"/>
            <a:ext cx="3409920" cy="337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wd">
                                    <p:tmAbs val="0.900000035762787"/>
                                  </p:iterate>
                                  <p:childTnLst>
                                    <p:set>
                                      <p:cBhvr>
                                        <p:cTn id="6" dur="1" fill="hold">
                                          <p:stCondLst>
                                            <p:cond delay="299"/>
                                          </p:stCondLst>
                                        </p:cTn>
                                        <p:tgtEl>
                                          <p:spTgt spid="107"/>
                                        </p:tgtEl>
                                        <p:attrNameLst>
                                          <p:attrName>style.visibility</p:attrName>
                                        </p:attrNameLst>
                                      </p:cBhvr>
                                      <p:to>
                                        <p:strVal val="visible"/>
                                      </p:to>
                                    </p:set>
                                  </p:childTnLst>
                                </p:cTn>
                              </p:par>
                            </p:childTnLst>
                          </p:cTn>
                        </p:par>
                        <p:par>
                          <p:cTn id="7" fill="hold">
                            <p:stCondLst>
                              <p:cond delay="2200"/>
                            </p:stCondLst>
                            <p:childTnLst>
                              <p:par>
                                <p:cTn id="8" nodeType="afterEffect" fill="hold" presetClass="entr" presetID="7" presetSubtype="8">
                                  <p:stCondLst>
                                    <p:cond delay="3000"/>
                                  </p:stCondLst>
                                  <p:childTnLst>
                                    <p:set>
                                      <p:cBhvr>
                                        <p:cTn id="9" dur="1" fill="hold">
                                          <p:stCondLst>
                                            <p:cond delay="0"/>
                                          </p:stCondLst>
                                        </p:cTn>
                                        <p:tgtEl>
                                          <p:spTgt spid="108"/>
                                        </p:tgtEl>
                                        <p:attrNameLst>
                                          <p:attrName>style.visibility</p:attrName>
                                        </p:attrNameLst>
                                      </p:cBhvr>
                                      <p:to>
                                        <p:strVal val="visible"/>
                                      </p:to>
                                    </p:set>
                                    <p:anim calcmode="lin" valueType="num">
                                      <p:cBhvr additive="base">
                                        <p:cTn id="10" dur="5000" fill="hold"/>
                                        <p:tgtEl>
                                          <p:spTgt spid="108"/>
                                        </p:tgtEl>
                                        <p:attrNameLst>
                                          <p:attrName>ppt_x</p:attrName>
                                        </p:attrNameLst>
                                      </p:cBhvr>
                                      <p:tavLst>
                                        <p:tav tm="0">
                                          <p:val>
                                            <p:strVal val="0-#ppt_w/2"/>
                                          </p:val>
                                        </p:tav>
                                        <p:tav tm="100000">
                                          <p:val>
                                            <p:strVal val="#ppt_x"/>
                                          </p:val>
                                        </p:tav>
                                      </p:tavLst>
                                    </p:anim>
                                    <p:anim calcmode="lin" valueType="num">
                                      <p:cBhvr additive="base">
                                        <p:cTn id="11" dur="50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456840"/>
            <a:ext cx="83059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Times New Roman"/>
                <a:ea typeface="Times New Roman"/>
              </a:rPr>
              <a:t>Поскольку открытые системы (ОС) взаимодействуют с окружающей средой, что-то из неё поглощая, что-то в неё выделяя, что-то перерабатывая, а что-то сохраняя; то процессы, происходящие в ней, можно схематически изобразить так:</a:t>
            </a:r>
            <a:br>
              <a:rPr sz="2000"/>
            </a:br>
            <a:endParaRPr b="0" lang="en-US" sz="2000" spc="-1" strike="noStrike">
              <a:solidFill>
                <a:srgbClr val="000000"/>
              </a:solidFill>
              <a:latin typeface="Times New Roman"/>
            </a:endParaRPr>
          </a:p>
        </p:txBody>
      </p:sp>
      <p:pic>
        <p:nvPicPr>
          <p:cNvPr id="55" name="Picture 5" descr=""/>
          <p:cNvPicPr/>
          <p:nvPr/>
        </p:nvPicPr>
        <p:blipFill>
          <a:blip r:embed="rId1"/>
          <a:stretch/>
        </p:blipFill>
        <p:spPr>
          <a:xfrm>
            <a:off x="1981080" y="1981080"/>
            <a:ext cx="5029200" cy="453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480"/>
            <a:ext cx="75438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ea typeface="Times New Roman"/>
              </a:rPr>
              <a:t>В психологической литературе широко распространено понятие "психотехника". </a:t>
            </a:r>
            <a:br>
              <a:rPr sz="2800"/>
            </a:br>
            <a:r>
              <a:rPr b="0" lang="en-US" sz="2800" spc="-1" strike="noStrike">
                <a:solidFill>
                  <a:srgbClr val="0033cc"/>
                </a:solidFill>
                <a:latin typeface="Times New Roman"/>
                <a:ea typeface="Times New Roman"/>
              </a:rPr>
              <a:t>Этот термин некорректен.</a:t>
            </a:r>
            <a:br>
              <a:rPr sz="2800"/>
            </a:br>
            <a:r>
              <a:rPr b="0" lang="en-US" sz="2800" spc="-1" strike="noStrike">
                <a:solidFill>
                  <a:srgbClr val="0033cc"/>
                </a:solidFill>
                <a:latin typeface="Times New Roman"/>
                <a:ea typeface="Times New Roman"/>
              </a:rPr>
              <a:t>ТЕХНИКА представляет собой статичный набор инструментов. В то время как целесообразная последовательность применения техники, приводящая к превращению сырья в продукт, называется ТЕХНОЛОГИЕЙ.</a:t>
            </a:r>
            <a:br>
              <a:rPr sz="2800"/>
            </a:br>
            <a:r>
              <a:rPr b="0" lang="en-US" sz="2800" spc="-1" strike="noStrike">
                <a:solidFill>
                  <a:srgbClr val="0033cc"/>
                </a:solidFill>
                <a:latin typeface="Times New Roman"/>
                <a:ea typeface="Times New Roman"/>
              </a:rPr>
              <a:t>Поэтому корректно применение термина "ПСИХОТЕХНОЛОГИЯ" вместо термина "психотехника".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Peterburg"/>
                <a:ea typeface="Times New Roman"/>
              </a:rPr>
              <a:t>Различия в технологиях психологов и врачей</a:t>
            </a:r>
            <a:endParaRPr b="0" lang="en-US" sz="2800" spc="-1" strike="noStrike">
              <a:solidFill>
                <a:srgbClr val="000000"/>
              </a:solidFill>
              <a:latin typeface="Times New Roman"/>
            </a:endParaRPr>
          </a:p>
        </p:txBody>
      </p:sp>
      <p:sp>
        <p:nvSpPr>
          <p:cNvPr id="58" name="Rectangle 7"/>
          <p:cNvSpPr/>
          <p:nvPr/>
        </p:nvSpPr>
        <p:spPr>
          <a:xfrm>
            <a:off x="231444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113" descr=""/>
          <p:cNvPicPr/>
          <p:nvPr/>
        </p:nvPicPr>
        <p:blipFill>
          <a:blip r:embed="rId1"/>
          <a:stretch/>
        </p:blipFill>
        <p:spPr>
          <a:xfrm>
            <a:off x="457200" y="1447920"/>
            <a:ext cx="8458200" cy="472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
          <p:cNvSpPr/>
          <p:nvPr/>
        </p:nvSpPr>
        <p:spPr>
          <a:xfrm>
            <a:off x="457200" y="609480"/>
            <a:ext cx="82296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ea typeface="Times New Roman"/>
              </a:rPr>
              <a:t>В любой практической деятельности случаются сбои. Чтобы их устранить, внимательно проверяют всю технологическую цепочку. Эту деятельность целесообразно разделить на две части: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3399"/>
                </a:solidFill>
                <a:latin typeface="Peterburg"/>
                <a:ea typeface="Times New Roman"/>
              </a:rPr>
              <a:t>1) Нахождение причин сбоев;</a:t>
            </a: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Peterburg"/>
                <a:ea typeface="Times New Roman"/>
              </a:rPr>
              <a:t>2) Устранение причин сбоев.</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terburg"/>
                <a:ea typeface="Times New Roman"/>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Peterburg"/>
                <a:ea typeface="Times New Roman"/>
              </a:rPr>
              <a:t>Собственно говоря, </a:t>
            </a:r>
            <a:r>
              <a:rPr b="0" lang="en-US" sz="2800" spc="-1" strike="noStrike">
                <a:solidFill>
                  <a:srgbClr val="0033cc"/>
                </a:solidFill>
                <a:latin typeface="Peterburg"/>
              </a:rPr>
              <a:t>достижению </a:t>
            </a:r>
            <a:r>
              <a:rPr b="0" lang="en-US" sz="2800" spc="-1" strike="noStrike">
                <a:solidFill>
                  <a:srgbClr val="0033cc"/>
                </a:solidFill>
                <a:latin typeface="Peterburg"/>
                <a:ea typeface="Times New Roman"/>
              </a:rPr>
              <a:t>эти</a:t>
            </a:r>
            <a:r>
              <a:rPr b="0" lang="en-US" sz="2800" spc="-1" strike="noStrike">
                <a:solidFill>
                  <a:srgbClr val="0033cc"/>
                </a:solidFill>
                <a:latin typeface="Peterburg"/>
              </a:rPr>
              <a:t>х</a:t>
            </a:r>
            <a:r>
              <a:rPr b="0" lang="en-US" sz="2800" spc="-1" strike="noStrike">
                <a:solidFill>
                  <a:srgbClr val="0033cc"/>
                </a:solidFill>
                <a:latin typeface="Peterburg"/>
                <a:ea typeface="Times New Roman"/>
              </a:rPr>
              <a:t> дву</a:t>
            </a:r>
            <a:r>
              <a:rPr b="0" lang="en-US" sz="2800" spc="-1" strike="noStrike">
                <a:solidFill>
                  <a:srgbClr val="0033cc"/>
                </a:solidFill>
                <a:latin typeface="Peterburg"/>
              </a:rPr>
              <a:t>х</a:t>
            </a:r>
            <a:r>
              <a:rPr b="0" lang="en-US" sz="2800" spc="-1" strike="noStrike">
                <a:solidFill>
                  <a:srgbClr val="0033cc"/>
                </a:solidFill>
                <a:latin typeface="Peterburg"/>
                <a:ea typeface="Times New Roman"/>
              </a:rPr>
              <a:t> цел</a:t>
            </a:r>
            <a:r>
              <a:rPr b="0" lang="en-US" sz="2800" spc="-1" strike="noStrike">
                <a:solidFill>
                  <a:srgbClr val="0033cc"/>
                </a:solidFill>
                <a:latin typeface="Peterburg"/>
              </a:rPr>
              <a:t>ей</a:t>
            </a:r>
            <a:r>
              <a:rPr b="0" lang="en-US" sz="2800" spc="-1" strike="noStrike">
                <a:solidFill>
                  <a:srgbClr val="0033cc"/>
                </a:solidFill>
                <a:latin typeface="Peterburg"/>
                <a:ea typeface="Times New Roman"/>
              </a:rPr>
              <a:t> и посвящена СУПЕРВИЗИ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Rectangle 3"/>
          <p:cNvSpPr/>
          <p:nvPr/>
        </p:nvSpPr>
        <p:spPr>
          <a:xfrm>
            <a:off x="685800" y="457200"/>
            <a:ext cx="792468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ea typeface="Times New Roman"/>
              </a:rPr>
              <a:t>Психологу, погружённому в рутину повседневной работы, трудно обнаружить собственные профессиональные границы, за которыми его деятельность оказывается неэффективной. Ему нужен дружественный компетентный взгляд со стороны, который бы помог выявить эти границы и преодолеть их.</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ea typeface="Times New Roman"/>
              </a:rPr>
              <a:t>Супервизию психологов-практиков можно рассматривать как вариант повышения квалификации, имеющий свои особенности и свою технологию, во многом сродни исследовательской деятельности. Поэтому малоэффективной может оказаться супервизия, производимая психологами из родственных учреждений, так как у них одинаково "замылен взгляд" на психологическую практику.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Times New Roman"/>
                <a:ea typeface="Times New Roman"/>
              </a:rPr>
              <a:t>Поскольку часто проблема даже НЕ ОСОЗНАЁТСЯ как таковая, то под видом проблемы могут быть заявлены самые разные второстепенные обстоятельства. Чтобы выявить ДЕЙСТВИТЕЛЬНЫЕ проблемы, нужен СВЕЖИЙ ВЗГЛЯД на работу не только отдельного психолога, но и в целом всего учреждения, в котором работает психоло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2856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Peterburg"/>
                <a:ea typeface="Times New Roman"/>
              </a:rPr>
              <a:t>Более того!</a:t>
            </a:r>
            <a:endParaRPr b="0" lang="en-US" sz="2800" spc="-1" strike="noStrike">
              <a:solidFill>
                <a:srgbClr val="000000"/>
              </a:solidFill>
              <a:latin typeface="Times New Roman"/>
            </a:endParaRPr>
          </a:p>
        </p:txBody>
      </p:sp>
      <p:sp>
        <p:nvSpPr>
          <p:cNvPr id="63" name="Rectangle 3"/>
          <p:cNvSpPr/>
          <p:nvPr/>
        </p:nvSpPr>
        <p:spPr>
          <a:xfrm>
            <a:off x="685800" y="762120"/>
            <a:ext cx="7467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Иначе говоря, помимо объявленных Заказчиком сбоев, супервизор наверняка обнаружит ещё много сбоев, НЕ замеченных Заказчиком.</a:t>
            </a:r>
            <a:endParaRPr b="0" lang="en-US" sz="2400" spc="-1" strike="noStrike">
              <a:solidFill>
                <a:srgbClr val="000000"/>
              </a:solidFill>
              <a:latin typeface="Times New Roman"/>
            </a:endParaRPr>
          </a:p>
        </p:txBody>
      </p:sp>
      <p:sp>
        <p:nvSpPr>
          <p:cNvPr id="64" name="Rectangle 4"/>
          <p:cNvSpPr/>
          <p:nvPr/>
        </p:nvSpPr>
        <p:spPr>
          <a:xfrm>
            <a:off x="533520" y="3352680"/>
            <a:ext cx="80769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Times New Roman"/>
                <a:ea typeface="Times New Roman"/>
              </a:rPr>
              <a:t>Супервизор должен быть БОЛЕЕ КОМПЕТЕНТЕН, чем супервизируемый психолог и его сослуживцы. </a:t>
            </a:r>
            <a:r>
              <a:rPr b="0" lang="ru-RU" sz="2400" spc="-1" strike="noStrike">
                <a:solidFill>
                  <a:srgbClr val="0033cc"/>
                </a:solidFill>
                <a:latin typeface="Times New Roman"/>
              </a:rPr>
              <a:t>Это позволит ему в </a:t>
            </a:r>
            <a:r>
              <a:rPr b="0" lang="ru-RU" sz="2400" spc="-1" strike="noStrike">
                <a:solidFill>
                  <a:srgbClr val="0033cc"/>
                </a:solidFill>
                <a:latin typeface="Times New Roman"/>
                <a:ea typeface="Times New Roman"/>
              </a:rPr>
              <a:t>ходе исследования</a:t>
            </a:r>
            <a:r>
              <a:rPr b="0" lang="ru-RU" sz="2400" spc="-1" strike="noStrike">
                <a:solidFill>
                  <a:srgbClr val="0033cc"/>
                </a:solidFill>
                <a:latin typeface="Times New Roman"/>
              </a:rPr>
              <a:t> не только </a:t>
            </a:r>
            <a:r>
              <a:rPr b="0" lang="ru-RU" sz="2400" spc="-1" strike="noStrike">
                <a:solidFill>
                  <a:srgbClr val="0033cc"/>
                </a:solidFill>
                <a:latin typeface="Times New Roman"/>
                <a:ea typeface="Times New Roman"/>
              </a:rPr>
              <a:t>углядеть БОЛЕЕ ВАЖНЫ</a:t>
            </a:r>
            <a:r>
              <a:rPr b="0" lang="ru-RU" sz="2400" spc="-1" strike="noStrike">
                <a:solidFill>
                  <a:srgbClr val="0033cc"/>
                </a:solidFill>
                <a:latin typeface="Times New Roman"/>
              </a:rPr>
              <a:t>Е</a:t>
            </a:r>
            <a:r>
              <a:rPr b="0" lang="ru-RU" sz="2400" spc="-1" strike="noStrike">
                <a:solidFill>
                  <a:srgbClr val="0033cc"/>
                </a:solidFill>
                <a:latin typeface="Times New Roman"/>
                <a:ea typeface="Times New Roman"/>
              </a:rPr>
              <a:t> ПРОБЛЕМ</a:t>
            </a:r>
            <a:r>
              <a:rPr b="0" lang="ru-RU" sz="2400" spc="-1" strike="noStrike">
                <a:solidFill>
                  <a:srgbClr val="0033cc"/>
                </a:solidFill>
                <a:latin typeface="Times New Roman"/>
              </a:rPr>
              <a:t>Ы</a:t>
            </a:r>
            <a:r>
              <a:rPr b="0" lang="ru-RU" sz="2400" spc="-1" strike="noStrike">
                <a:solidFill>
                  <a:srgbClr val="0033cc"/>
                </a:solidFill>
                <a:latin typeface="Times New Roman"/>
                <a:ea typeface="Times New Roman"/>
              </a:rPr>
              <a:t>, чем было первоначально заявлено Заказчиком</a:t>
            </a:r>
            <a:r>
              <a:rPr b="0" lang="ru-RU" sz="2400" spc="-1" strike="noStrike">
                <a:solidFill>
                  <a:srgbClr val="0033cc"/>
                </a:solidFill>
                <a:latin typeface="Times New Roman"/>
              </a:rPr>
              <a:t>, но и наметить способы их РЕШЕНИЯ.</a:t>
            </a:r>
            <a:r>
              <a:rPr b="0" lang="ru-RU" sz="2400" spc="-1" strike="noStrike">
                <a:solidFill>
                  <a:srgbClr val="0033cc"/>
                </a:solidFill>
                <a:latin typeface="Times New Roman"/>
                <a:ea typeface="Times New Roman"/>
              </a:rPr>
              <a:t> </a:t>
            </a:r>
            <a:r>
              <a:rPr b="0" lang="ru-RU" sz="2400" spc="-1" strike="noStrike">
                <a:solidFill>
                  <a:srgbClr val="0033cc"/>
                </a:solidFill>
                <a:latin typeface="Times New Roman"/>
              </a:rPr>
              <a:t>Вследствие этого первоначальная формулировка запроса Заказчика на супервизию может существенно изменится к концу исследования</a:t>
            </a:r>
            <a:r>
              <a:rPr b="0" lang="ru-RU" sz="2400" spc="-1" strike="noStrike">
                <a:solidFill>
                  <a:srgbClr val="0033cc"/>
                </a:solidFill>
                <a:latin typeface="Times New Roman"/>
                <a:ea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3T13:54:06Z</dcterms:created>
  <dc:creator>Doroga</dc:creator>
  <dc:description/>
  <dc:language>en-US</dc:language>
  <cp:lastModifiedBy>Doroga</cp:lastModifiedBy>
  <dcterms:modified xsi:type="dcterms:W3CDTF">2015-10-26T19:44:01Z</dcterms:modified>
  <cp:revision>115</cp:revision>
  <dc:subject/>
  <dc:title>Супервизия деятельности  психолога-практика</dc:title>
</cp:coreProperties>
</file>