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3F3-A12C-48A9-B565-CFFAF2F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B93-943E-4FE8-AD4D-682FC4E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77C-3138-4129-A058-02B617CB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90B-3EE1-4FB9-A574-64B843D5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3D0-9C51-416E-8321-DA2033A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9DC-6225-40D0-A6D3-AEA1A23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917-1D9F-47C4-A377-B49D203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1D9-4B34-4B9A-A78E-49D735E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0EE-4B16-4B64-94A7-506F034B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10D-BE9A-4498-A92C-91959B1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FD7-A4AF-4BB6-A758-FDDCD03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743-0B9A-4528-AEBC-89E697D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99C-103F-49BE-915A-100BC6385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Виды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ное описание видов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7600" y="68904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ешов Павел Геннад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Псих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посредник между внутренней и внешней средами активной открыт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362320"/>
            <a:ext cx="716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хику можно рассматривать как посредника, призванного обеспечить внутренней среде успешное существование в столь непредсказуемо и сложно устроен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сихика является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информационной систем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, обладающей средствами </a:t>
            </a:r>
            <a:r>
              <a:rPr b="1" lang="en-US" sz="2400" spc="-1" strike="noStrike">
                <a:solidFill>
                  <a:srgbClr val="ff3300"/>
                </a:solidFill>
                <a:latin typeface="Times New Roman Cyr"/>
              </a:rPr>
              <a:t>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 информации о </a:t>
            </a:r>
            <a:r>
              <a:rPr b="1" lang="en-US" sz="2400" spc="-1" strike="noStrike">
                <a:solidFill>
                  <a:srgbClr val="3366ff"/>
                </a:solidFill>
                <a:latin typeface="Times New Roman Cyr"/>
              </a:rPr>
              <a:t>внутренн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 среде (интероцепторы) и </a:t>
            </a:r>
            <a:r>
              <a:rPr b="1" lang="en-US" sz="2400" spc="-1" strike="noStrike">
                <a:solidFill>
                  <a:srgbClr val="3366ff"/>
                </a:solidFill>
                <a:latin typeface="Times New Roman Cyr"/>
              </a:rPr>
              <a:t>внешней</a:t>
            </a:r>
            <a:r>
              <a:rPr b="1" lang="en-US" sz="2400" spc="-1" strike="noStrike">
                <a:solidFill>
                  <a:srgbClr val="ff99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среде (экстероцепторы), средствами её </a:t>
            </a:r>
            <a:r>
              <a:rPr b="1" lang="en-US" sz="2400" spc="-1" strike="noStrike">
                <a:solidFill>
                  <a:srgbClr val="ff3300"/>
                </a:solidFill>
                <a:latin typeface="Times New Roman Cyr"/>
              </a:rPr>
              <a:t>переработ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 (мышление), </a:t>
            </a:r>
            <a:r>
              <a:rPr b="1" lang="en-US" sz="2400" spc="-1" strike="noStrike">
                <a:solidFill>
                  <a:srgbClr val="ff3300"/>
                </a:solidFill>
                <a:latin typeface="Times New Roman Cyr"/>
              </a:rPr>
              <a:t>хран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 (память) и </a:t>
            </a:r>
            <a:r>
              <a:rPr b="1" lang="en-US" sz="2400" spc="-1" strike="noStrike">
                <a:solidFill>
                  <a:srgbClr val="ff3300"/>
                </a:solidFill>
                <a:latin typeface="Times New Roman Cyr"/>
              </a:rPr>
              <a:t>выдачи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 (поведение и деятель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о мышления в ряду психических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040" y="914400"/>
            <a:ext cx="1886040" cy="825480"/>
          </a:xfrm>
          <a:prstGeom prst="rect">
            <a:avLst/>
          </a:prstGeom>
          <a:solidFill>
            <a:srgbClr val="ffd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сихи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914400"/>
            <a:ext cx="1886040" cy="825480"/>
          </a:xfrm>
          <a:prstGeom prst="rect">
            <a:avLst/>
          </a:prstGeom>
          <a:solidFill>
            <a:srgbClr val="ffd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сихи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55560" y="914400"/>
            <a:ext cx="1886040" cy="825480"/>
          </a:xfrm>
          <a:prstGeom prst="rect">
            <a:avLst/>
          </a:prstGeom>
          <a:solidFill>
            <a:srgbClr val="ffd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сихи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51600" y="914400"/>
            <a:ext cx="1886040" cy="825480"/>
          </a:xfrm>
          <a:prstGeom prst="rect">
            <a:avLst/>
          </a:prstGeom>
          <a:solidFill>
            <a:srgbClr val="ffd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сихи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75248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Психические свойства.</a:t>
            </a: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Это наиболее устойчивые во времени явления. Они, конечно, изменяются, но для этого должны произойти очень крупные события в жизни ОС. К психическим свойства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требност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особност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ыт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браз действительност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Психические состояния.</a:t>
            </a: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Э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остаточнос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одоление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ображение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естерпимос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ни служат для оценки происходящего с ОС. П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сихические состоя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задают направление психическим процессам и как бы следят за их ходом, выдавая эмоциональные оценки успешности протекания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Психические процессы.</a:t>
            </a: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сихика п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заимодействии с внеш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 внутренней средами что-то из ни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глощает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ерерабатыв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поглощенное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хран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де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во внешнюю среду. Сюда относя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осприят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мышлен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ереживание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(не память, как нечто статичное, а помнение, как процесс хранения информации)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ведение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Психические материалы,</a:t>
            </a:r>
            <a:r>
              <a:rPr b="0" lang="ru-RU" sz="1800" spc="-1" strike="noStrike">
                <a:solidFill>
                  <a:srgbClr val="000000"/>
                </a:solidFill>
                <a:latin typeface="PetersburgCTT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дразделяемые н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ырьё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одукт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которые используются в психических процессах: ощущения, образы, мысли, понятия, эмоции, чувства, отношения, действия и т.п. Это некие психические единицы, выступающие в разных психических процессах то в виде сырья, то в виде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5880" y="55260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Психические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52388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eterburg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обытия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cc9900"/>
                </a:solidFill>
                <a:latin typeface="Peterburg"/>
                <a:ea typeface="Times New Roman"/>
              </a:rPr>
              <a:t>непосредственные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взаимо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eterburg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наки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cc9900"/>
                </a:solidFill>
                <a:latin typeface="Peterburg"/>
                <a:ea typeface="Times New Roman"/>
              </a:rPr>
              <a:t>опосредованные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взаимо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eterburg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аждое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событие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, происходящее в настоящем времени, иначе говоря, каждое взаимодействие между какими-либо открытыми системами, порождает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знаки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: обращённые в прошлое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следы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и обращённые в будущее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вести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. Если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весть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это некий всплеск, который не имеет длительного бытия (в сравнении с самим событием), то </a:t>
            </a:r>
            <a:r>
              <a:rPr b="1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след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метка, отпечаток, остаётся на провзаимодействовавших 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</a:rPr>
              <a:t>ОС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навсегда</a:t>
            </a:r>
            <a:r>
              <a:rPr b="0" lang="ru-RU" sz="2400" spc="-1" strike="noStrike">
                <a:solidFill>
                  <a:srgbClr val="000000"/>
                </a:solidFill>
                <a:latin typeface="Peterbur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иницы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219320"/>
            <a:ext cx="7924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terburg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убъекты 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активные ОС) при встрече со следами и вестями, а, также, непосредственно взаимодействуя с явлениями действительности, создают каждый свой уникальный </a:t>
            </a:r>
            <a:r>
              <a:rPr b="1" lang="en-US" sz="1800" spc="-1" strike="noStrike">
                <a:solidFill>
                  <a:srgbClr val="cc9900"/>
                </a:solidFill>
                <a:latin typeface="Peterburg"/>
                <a:ea typeface="Times New Roman"/>
              </a:rPr>
              <a:t>образ действи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Чтобы взаимодействовать с себе подобными слаженно, продуктивно, успешно, им приходится как-то договариваться по поводу устройства действительности и своих совместных в ней действий. Тут-то и становятся им необходимыми </a:t>
            </a:r>
            <a:r>
              <a:rPr b="1" lang="en-US" sz="1800" spc="-1" strike="noStrike">
                <a:solidFill>
                  <a:srgbClr val="ff9999"/>
                </a:solidFill>
                <a:latin typeface="Peterburg"/>
                <a:ea typeface="Times New Roman"/>
              </a:rPr>
              <a:t>символы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eterburg"/>
                <a:ea typeface="Times New Roman"/>
              </a:rPr>
              <a:t>заместители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99"/>
                </a:solidFill>
                <a:latin typeface="Peterburg"/>
                <a:ea typeface="Times New Roman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9999"/>
                </a:solidFill>
                <a:latin typeface="Peterburg"/>
                <a:ea typeface="Times New Roman"/>
              </a:rPr>
              <a:t>следов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ff9999"/>
                </a:solidFill>
                <a:latin typeface="Peterburg"/>
                <a:ea typeface="Times New Roman"/>
              </a:rPr>
              <a:t>вестей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таком случае буквы оказываютс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заместител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звуков, иероглифы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заместител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слов и т.д. К примеру, какой-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нибудь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едведь нарочно оставляет свои следы на границах своего участка. Он его сознательно метит. Эти метки служат символами этого медведя и адресованы другим представителям его вида как сообщение о занятости данного учас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Словом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ff9999"/>
                </a:solidFill>
                <a:uFillTx/>
                <a:latin typeface="Peterburg"/>
                <a:ea typeface="Times New Roman"/>
              </a:rPr>
              <a:t>знак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я предлагаю пользоваться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как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родовым понятием 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следов, вестей 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символов.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и 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295280"/>
            <a:ext cx="7543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наки имеют сво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нач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. Так, определённый ряд вмятин в почве (след), в зависимости от их формы, свежести и глубины, может иметь разное значение для разн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убъек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в с этим знаком встретивш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о-первых, вмятины можно либо заметить, либо не заметить. А, заметив, можно придать им значение, или не придать. А, если и решат придать значение, то каждый придаст своё ("Здесь вчера прошёл медведь!" – "Не вчера, а только что! И не медведь, а лось!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Peterburg"/>
                <a:ea typeface="Times New Roman"/>
              </a:rPr>
              <a:t>Мышление оперирует не столько знаками, сколько их значениями.</a:t>
            </a:r>
            <a:r>
              <a:rPr b="0" lang="en-US" sz="2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мен информ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34640" cy="289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4267080"/>
            <a:ext cx="72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мен информацией между субъектами сводится к обмену знаками и приписыванию им субъективных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вида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06668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 Cyr"/>
                <a:ea typeface="Times New Roman"/>
              </a:rPr>
              <a:t>Собственный опы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убъек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а складывается при его непосредственном взаимодействии с явлениями действительности. Поэтому собственный опыт все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конкрет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(самостоятельно получен во вполне определённых обстоятельствах с помощью собственных органов восприят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 Cyr"/>
                <a:ea typeface="Times New Roman"/>
              </a:rPr>
              <a:t>Отчуждённый опы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бразуется как итог обобщения</a:t>
            </a:r>
            <a:r>
              <a:rPr b="0" lang="en-US" sz="24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конкретного опыта (своего и чужого). Отчуждённый опы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се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абстракт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(получен опосредованно, через осмысление, освоение, интериоризацию текстов (в широком смысле этого слова), составленных как сам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убъек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м на основе множества похожих событий своей жизни, так и переданных ему други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убъек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ами). Он отчуждается от всех конкретных обстоятельств его получения, от свойст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убъект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в, его добывших, и хранится в памяти в виде по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тыре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990720"/>
            <a:ext cx="86868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eterburg"/>
                <a:ea typeface="Times New Roman"/>
              </a:rPr>
              <a:t>Образ</a:t>
            </a:r>
            <a:r>
              <a:rPr b="1" lang="ru-RU" sz="2000" spc="-1" strike="noStrike">
                <a:solidFill>
                  <a:srgbClr val="000000"/>
                </a:solidFill>
                <a:latin typeface="Peterburg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это след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ы, закрепляющие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в памяти индивида при его непосредственном взаимодействии с действитель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. Как правило, образы бывают эмоционально окрашен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Смысл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– следы самостоятельного осознавания причинно-следственных закономер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eterburg"/>
                <a:ea typeface="Times New Roman"/>
              </a:rPr>
              <a:t>Понятия</a:t>
            </a:r>
            <a:r>
              <a:rPr b="0" lang="ru-RU" sz="20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Peterbur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э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символы, обозначающие как отдельные явления, так и целые классы сходных явлений. Понятия – это продукты процессов обобщения, отвлечения, абстрагирован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О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огут быть как невербальными, так и вербальными. Это как бы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 эмоциона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бесцвеченные обр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eterburg"/>
              </a:rPr>
              <a:t>Сценарии</a:t>
            </a:r>
            <a:r>
              <a:rPr b="0" lang="ru-RU" sz="2000" spc="-1" strike="noStrike">
                <a:solidFill>
                  <a:srgbClr val="000000"/>
                </a:solidFill>
                <a:latin typeface="Peterburg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всевозможные мыслительные и поведенческие автоматизмы (рефлексы), которые вырабатываются у субъектов в итоге взаимодействия с действительностью, позволяющие неосознанно действовать в привычных обстоятель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 Cyr"/>
              </a:rPr>
              <a:t>Конкретная информация хранится в памяти в виде образов и смыслов, а абстрактная информация в виде понятий и сценари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880480" cy="3135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50864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енсивные (указательные)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бальные (словесные)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нкретно-дроб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 Cyr"/>
                <a:ea typeface="Times New Roman"/>
              </a:rPr>
              <a:t>Конкретно-дроб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ышление включается в работу при встрече с чем-то необычным, непонятным, сложным, новым, непривычным. Если применить здесь понятия субъект и объект к предмету познания, то можно сказать, что познающий принимает здесь позицию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я - объект, предмет познания - субъек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Т.е. предполагается, что познаваемая действительность сложней, непредсказуемей, чем казалось на первый взгл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Как пример добросовестного конкретно-дробного прочёсывания местности можно приве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ткры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кольцеобразных островов в оке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66ff"/>
                </a:solidFill>
                <a:latin typeface="Times New Roman Cyr"/>
              </a:rPr>
              <a:t>Применение знаний о видах мышле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39880"/>
            <a:ext cx="83059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ние о видах мышления позволя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отслеживать ход собственных мыслительных процесс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 уверенно и находчиво действовать в критических обстоятельств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ворчески, нестандартно решать типовые, казалось бы уже давно понятные задач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поддаваться на провок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осознанно общаться, понимая себя и своих собесед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ыстро обуча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много ещё чег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Конкретно-целост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Когда новое явление всесторонне исследовано, оно получает место в представлении познающего существа, оно становится понятным в результате интенсивной переработки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 Cyr"/>
                <a:ea typeface="Times New Roman"/>
              </a:rPr>
              <a:t>конкретно-целост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ыш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и этом разрозненные кусочки опыта начинают как бы сами по себе искать возможности объединения в комплексы, в целостные, внутренне наименее напряжённые сочетания. Происходит кристаллизация смысла. Происходит вызревание понимания стоящих за фактами закономер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римером конкретно-целостного мышления можно назв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понимание прич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кольцеобразности островов, которые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вершинами океанических вулкан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Абстрактно-целост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 Cyr"/>
                <a:ea typeface="Times New Roman"/>
              </a:rPr>
              <a:t>Абстрактно-целостн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ышление отвлекается от непосредственного опыта, оно обезличенное и можно с полным основанием говорить об объект-объектной позиции познающего (я - объект, предмет познания - объект). В сравнении с другими видами мышления – у этого есть развитый синтаксис. Его задача - обобщение достигнутого конкретно-целостным мышлением, обезличивание, формализация чужого и своего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Введение понятия «атолл»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, определяемого как «остров кольцеобразной формы, внутри заключающий мелководную лагуну».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Разработка представлений о возникновении атол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, вследствие извержений подводных вулк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Абстрактно-дроб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37160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 Cyr"/>
                <a:ea typeface="Times New Roman"/>
              </a:rPr>
              <a:t>Абстрактно-дробн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мышление имеет дело с понятными вещами, оно относится к предметам, как к простым, известным, обычным. Это уже позиция я - субъект, предме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спольз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– объект (о предмете познания речи уже нет – он считается давно познанным). Это последняя стадия освоения действительности от её первоначально полного непонимания до полного её покорения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Поэтому много думать не надо. Этот вид мышления проявляется в быстром реагировании на знакомые знаки из внешней либо из внутренней среды открыт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Знание о существовании атол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 усваивается в готовом виде из учебников, словарей, фильмов и прочих хорошо структурированных источников информации. Оно каж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само собой разумеющим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ительн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392800">
            <a:off x="837720" y="190476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2096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52200">
            <a:off x="7315200" y="190512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22096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6840" y="12952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240" y="12952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41760" y="12952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8080" y="12952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590920"/>
            <a:ext cx="3812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6880" y="3429000"/>
            <a:ext cx="7954560" cy="368280"/>
            <a:chOff x="686880" y="3429000"/>
            <a:chExt cx="7954560" cy="368280"/>
          </a:xfrm>
        </p:grpSpPr>
        <p:sp>
          <p:nvSpPr>
            <p:cNvPr id="154" name=""/>
            <p:cNvSpPr/>
            <p:nvPr/>
          </p:nvSpPr>
          <p:spPr>
            <a:xfrm>
              <a:off x="686880" y="34290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71920" y="34290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мысл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90560" y="34290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лгоритмы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19560" y="342900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нятия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2280" y="396252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щательный сбор сведений, проверка их достоверности. Высочайшая осознанность всего происходя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62520"/>
            <a:ext cx="220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мысление фактов, построение из них внутренне непротиворечивых целостных образов. Догадки, озарения, про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38862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бщение достигнутого конкретно-целостным мышлением. Обезличивание, чужого и своего опы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886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ее осознанная автоматическая деятельность. Непосредственное реагирование на знаки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шение фигур и ф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392800">
            <a:off x="837720" y="190476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2096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52200">
            <a:off x="7315200" y="190512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22096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840" y="12952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240" y="12952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41760" y="12952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78080" y="12952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590920"/>
            <a:ext cx="3812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259092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6880" y="3429000"/>
            <a:ext cx="7890840" cy="368280"/>
            <a:chOff x="686880" y="3429000"/>
            <a:chExt cx="7890840" cy="368280"/>
          </a:xfrm>
        </p:grpSpPr>
        <p:sp>
          <p:nvSpPr>
            <p:cNvPr id="176" name=""/>
            <p:cNvSpPr/>
            <p:nvPr/>
          </p:nvSpPr>
          <p:spPr>
            <a:xfrm>
              <a:off x="686880" y="34290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1920" y="34290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мысл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0920" y="34290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лгоритм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19560" y="342900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нятия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47680" y="39434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7840" y="394344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фигуры, и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9434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 фигур, ни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924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160" y="4816440"/>
            <a:ext cx="79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г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никальная часть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вычная, заурядная часть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волюция представлений о дей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392800">
            <a:off x="837720" y="274284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04812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52200">
            <a:off x="7315200" y="274320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04812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6840" y="213372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240" y="213372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Конкре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41760" y="213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др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78080" y="213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Абстра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цел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429000"/>
            <a:ext cx="3808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3640" y="4267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8680" y="4267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ысл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7320" y="42670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оритм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16320" y="4267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ят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952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Это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может бы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9528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эт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что-то ес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9528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Э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полне объясн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4951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то же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этог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зн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15238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terburg"/>
              </a:rPr>
              <a:t>Подробней о видах мышления можно прочитать в книге «Кулешов П.Г. </a:t>
            </a:r>
            <a:r>
              <a:rPr b="0" lang="en-US" sz="2800" spc="-1" strike="noStrike">
                <a:solidFill>
                  <a:srgbClr val="000000"/>
                </a:solidFill>
                <a:latin typeface="Peterburg"/>
                <a:ea typeface="Times New Roman"/>
              </a:rPr>
              <a:t>"Виды мышления"</a:t>
            </a:r>
            <a:r>
              <a:rPr b="0" lang="en-US" sz="2800" spc="-1" strike="noStrike">
                <a:solidFill>
                  <a:srgbClr val="000000"/>
                </a:solidFill>
                <a:latin typeface="Peterburg"/>
              </a:rPr>
              <a:t>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terburg"/>
              </a:rPr>
              <a:t>Коммуникационна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Peterburg"/>
              </a:rPr>
              <a:t>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34640" cy="289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91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сть взаимопонимания заключается в том, что людям свойственно приписывать словам значения, взятые из их собственного опыта. Поэтому одним и тем же словам могут быть приписаны разные значения, либо разным словам может быть приписано одно и то ж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terburg"/>
              </a:rPr>
              <a:t>Дальнейшие рассуждения делаются в рамках теори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 системы закрытые и откры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0" y="1981080"/>
            <a:ext cx="7026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 Cyr"/>
              </a:rPr>
              <a:t>Закрыт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 системы имеют ограниченный набор элементов и не взаимодействуют с другими сист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72428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Строго говоря, все естественные системы в той или иной степени откры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0840" y="3641760"/>
            <a:ext cx="733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 Cyr"/>
              </a:rPr>
              <a:t>Открыт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 системы обмениваются элементами и тем самым взаимодействуют с другими сист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ые Системы помимо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внутренни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язей имеют ещё и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внеш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вязи, соединяющие их с други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11480" y="3963960"/>
            <a:ext cx="5107320" cy="1901880"/>
            <a:chOff x="2211480" y="3963960"/>
            <a:chExt cx="5107320" cy="1901880"/>
          </a:xfrm>
        </p:grpSpPr>
        <p:sp>
          <p:nvSpPr>
            <p:cNvPr id="56" name=""/>
            <p:cNvSpPr/>
            <p:nvPr/>
          </p:nvSpPr>
          <p:spPr>
            <a:xfrm>
              <a:off x="3962520" y="4915080"/>
              <a:ext cx="2171520" cy="39600"/>
            </a:xfrm>
            <a:custGeom>
              <a:avLst/>
              <a:gdLst/>
              <a:ahLst/>
              <a:rect l="l" t="t" r="r" b="b"/>
              <a:pathLst>
                <a:path w="1368" h="25">
                  <a:moveTo>
                    <a:pt x="1367" y="24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211480" y="3963960"/>
              <a:ext cx="5107320" cy="1901880"/>
              <a:chOff x="2211480" y="3963960"/>
              <a:chExt cx="5107320" cy="1901880"/>
            </a:xfrm>
          </p:grpSpPr>
          <p:sp>
            <p:nvSpPr>
              <p:cNvPr id="58" name=""/>
              <p:cNvSpPr/>
              <p:nvPr/>
            </p:nvSpPr>
            <p:spPr>
              <a:xfrm>
                <a:off x="2820960" y="5487840"/>
                <a:ext cx="378000" cy="378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20960" y="4649760"/>
                <a:ext cx="378000" cy="378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11480" y="5106960"/>
                <a:ext cx="377640" cy="378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9040" y="5487840"/>
                <a:ext cx="378000" cy="378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83080" y="4726080"/>
                <a:ext cx="377640" cy="377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20960" y="3963960"/>
                <a:ext cx="378000" cy="378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86400" y="4495680"/>
                <a:ext cx="1832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 Cyr"/>
                  </a:rPr>
                  <a:t>Элемент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16040" y="4115880"/>
            <a:ext cx="6627960" cy="1905120"/>
            <a:chOff x="2516040" y="4115880"/>
            <a:chExt cx="6627960" cy="1905120"/>
          </a:xfrm>
        </p:grpSpPr>
        <p:sp>
          <p:nvSpPr>
            <p:cNvPr id="66" name=""/>
            <p:cNvSpPr/>
            <p:nvPr/>
          </p:nvSpPr>
          <p:spPr>
            <a:xfrm>
              <a:off x="3733920" y="5257800"/>
              <a:ext cx="2592360" cy="458640"/>
            </a:xfrm>
            <a:custGeom>
              <a:avLst/>
              <a:gdLst/>
              <a:ahLst/>
              <a:rect l="l" t="t" r="r" b="b"/>
              <a:pathLst>
                <a:path w="1633" h="289">
                  <a:moveTo>
                    <a:pt x="1632" y="288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516040" y="4878360"/>
              <a:ext cx="378000" cy="3016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125880" y="5030280"/>
              <a:ext cx="530280" cy="5302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516040" y="4268520"/>
              <a:ext cx="378000" cy="9111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049200" y="4115880"/>
              <a:ext cx="606600" cy="68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125880" y="4268520"/>
              <a:ext cx="682560" cy="13683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2973240" y="4802040"/>
              <a:ext cx="758880" cy="835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029040" y="4954680"/>
              <a:ext cx="0" cy="682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5562720"/>
              <a:ext cx="2895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yr"/>
                </a:rPr>
                <a:t>Связь внутрення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2680" y="2620800"/>
            <a:ext cx="8477280" cy="4007160"/>
            <a:chOff x="382680" y="2620800"/>
            <a:chExt cx="8477280" cy="4007160"/>
          </a:xfrm>
        </p:grpSpPr>
        <p:sp>
          <p:nvSpPr>
            <p:cNvPr id="76" name=""/>
            <p:cNvSpPr/>
            <p:nvPr/>
          </p:nvSpPr>
          <p:spPr>
            <a:xfrm>
              <a:off x="5106960" y="6173640"/>
              <a:ext cx="378000" cy="378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20960" y="2668680"/>
              <a:ext cx="378000" cy="37764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1680" y="3049560"/>
              <a:ext cx="377640" cy="378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5680" y="3430440"/>
              <a:ext cx="377640" cy="378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2680" y="5030640"/>
              <a:ext cx="377640" cy="378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5680" y="6249960"/>
              <a:ext cx="377640" cy="3780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033880" y="2620800"/>
              <a:ext cx="3826080" cy="482760"/>
              <a:chOff x="5033880" y="2620800"/>
              <a:chExt cx="3826080" cy="48276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3880" y="2620800"/>
                <a:ext cx="382608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5033880" y="2620800"/>
                <a:ext cx="3800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 Cyr"/>
                  </a:rPr>
                  <a:t>Элементы других систе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4135320" y="2849400"/>
              <a:ext cx="900360" cy="255600"/>
            </a:xfrm>
            <a:custGeom>
              <a:avLst/>
              <a:gdLst/>
              <a:ahLst/>
              <a:rect l="l" t="t" r="r" b="b"/>
              <a:pathLst>
                <a:path w="567" h="161">
                  <a:moveTo>
                    <a:pt x="566" y="0"/>
                  </a:moveTo>
                  <a:lnTo>
                    <a:pt x="0" y="1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00400" y="2849400"/>
              <a:ext cx="1835280" cy="9720"/>
            </a:xfrm>
            <a:custGeom>
              <a:avLst/>
              <a:gdLst/>
              <a:ahLst/>
              <a:rect l="l" t="t" r="r" b="b"/>
              <a:pathLst>
                <a:path w="1156" h="6">
                  <a:moveTo>
                    <a:pt x="1155" y="0"/>
                  </a:move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89040" y="2975040"/>
            <a:ext cx="8226360" cy="3502080"/>
            <a:chOff x="689040" y="2975040"/>
            <a:chExt cx="8226360" cy="3502080"/>
          </a:xfrm>
        </p:grpSpPr>
        <p:sp>
          <p:nvSpPr>
            <p:cNvPr id="88" name=""/>
            <p:cNvSpPr/>
            <p:nvPr/>
          </p:nvSpPr>
          <p:spPr>
            <a:xfrm>
              <a:off x="3889440" y="5641920"/>
              <a:ext cx="1368360" cy="68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2975040"/>
              <a:ext cx="0" cy="1216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9040" y="5261040"/>
              <a:ext cx="167328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5720" y="3736800"/>
              <a:ext cx="1216080" cy="114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11680" y="3354480"/>
              <a:ext cx="149040" cy="159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55720" y="5641920"/>
              <a:ext cx="1292400" cy="83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3276720"/>
              <a:ext cx="2895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yr"/>
                </a:rPr>
                <a:t>Связь внешня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3886200"/>
              <a:ext cx="2668680" cy="77760"/>
            </a:xfrm>
            <a:custGeom>
              <a:avLst/>
              <a:gdLst/>
              <a:ahLst/>
              <a:rect l="l" t="t" r="r" b="b"/>
              <a:pathLst>
                <a:path w="1681" h="49">
                  <a:moveTo>
                    <a:pt x="1680" y="0"/>
                  </a:move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3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открыт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3313080"/>
            <a:ext cx="51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30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даментальные 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70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44000" cy="210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4419720"/>
            <a:ext cx="556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ая система как целое что-то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выделяе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о внешнюю среду, что-то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хран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что-то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поглощае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перерабат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вида открытых систем (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Среди ОС можно выделить системы 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  <a:ea typeface="Times New Roman"/>
              </a:rPr>
              <a:t>пассивные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  <a:ea typeface="Times New Roman"/>
              </a:rPr>
              <a:t>активные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9900"/>
                </a:solidFill>
                <a:latin typeface="Peterburg"/>
              </a:rPr>
              <a:t>О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  <a:ea typeface="Times New Roman"/>
              </a:rPr>
              <a:t>бъект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</a:rPr>
              <a:t>ы 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– пассивные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ОС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. Они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 примитивны, предсказуемы, одинаковы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9900"/>
                </a:solidFill>
                <a:latin typeface="Peterburg"/>
              </a:rPr>
              <a:t>С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  <a:ea typeface="Times New Roman"/>
              </a:rPr>
              <a:t>убъект</a:t>
            </a:r>
            <a:r>
              <a:rPr b="0" i="1" lang="en-US" sz="3200" spc="-1" strike="noStrike">
                <a:solidFill>
                  <a:srgbClr val="cc9900"/>
                </a:solidFill>
                <a:latin typeface="Peterburg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 – активные ОС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. Они</a:t>
            </a:r>
            <a:r>
              <a:rPr b="0" lang="en-US" sz="3200" spc="-1" strike="noStrike">
                <a:solidFill>
                  <a:srgbClr val="000000"/>
                </a:solidFill>
                <a:latin typeface="Peterburg"/>
                <a:ea typeface="Times New Roman"/>
              </a:rPr>
              <a:t> самостоятельны, непредсказуемы, уника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terburg"/>
              </a:rPr>
              <a:t>Субъекты, в отличие от объектов, обладают псих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28:22Z</dcterms:created>
  <dc:creator>user</dc:creator>
  <dc:description/>
  <dc:language>en-US</dc:language>
  <cp:lastModifiedBy>ПК</cp:lastModifiedBy>
  <dcterms:modified xsi:type="dcterms:W3CDTF">2024-04-13T05:09:43Z</dcterms:modified>
  <cp:revision>152</cp:revision>
  <dc:subject/>
  <dc:title>Соционика </dc:title>
</cp:coreProperties>
</file>